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50920" y="684360"/>
            <a:ext cx="455616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A65D-076E-44BF-8D5F-2F78D5A8E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5961-8CDF-4BF2-BC24-21E7FC30872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7" name="PlaceHolder 1"/>
          <p:cNvSpPr>
            <a:spLocks noGrp="1"/>
          </p:cNvSpPr>
          <p:nvPr>
            <p:ph type="sldImg"/>
          </p:nvPr>
        </p:nvSpPr>
        <p:spPr>
          <a:xfrm>
            <a:off x="1150920" y="684360"/>
            <a:ext cx="4556160" cy="3417840"/>
          </a:xfrm>
          <a:prstGeom prst="rect">
            <a:avLst/>
          </a:prstGeom>
          <a:ln w="0">
            <a:noFill/>
          </a:ln>
        </p:spPr>
      </p:sp>
      <p:sp>
        <p:nvSpPr>
          <p:cNvPr id="29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heard from the research, let’s hear from a child.  (Let teachers rea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FF76-4D00-4EB2-9AB1-28C4027DFAB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0" name="PlaceHolder 1"/>
          <p:cNvSpPr>
            <a:spLocks noGrp="1"/>
          </p:cNvSpPr>
          <p:nvPr>
            <p:ph type="sldImg"/>
          </p:nvPr>
        </p:nvSpPr>
        <p:spPr>
          <a:xfrm>
            <a:off x="1150920" y="684360"/>
            <a:ext cx="4556160" cy="3417840"/>
          </a:xfrm>
          <a:prstGeom prst="rect">
            <a:avLst/>
          </a:prstGeom>
          <a:ln w="0">
            <a:noFill/>
          </a:ln>
        </p:spPr>
      </p:sp>
      <p:sp>
        <p:nvSpPr>
          <p:cNvPr id="30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 study found shared reading to be more effective than RR in word analysis and fluen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9F24-D396-42BD-A8F4-75565499D67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50920" y="684360"/>
            <a:ext cx="4556160" cy="3417840"/>
          </a:xfrm>
          <a:prstGeom prst="rect">
            <a:avLst/>
          </a:prstGeom>
          <a:ln w="0">
            <a:noFill/>
          </a:ln>
        </p:spPr>
      </p:sp>
      <p:sp>
        <p:nvSpPr>
          <p:cNvPr id="304" name="PlaceHolder 2"/>
          <p:cNvSpPr>
            <a:spLocks noGrp="1"/>
          </p:cNvSpPr>
          <p:nvPr>
            <p:ph type="body"/>
          </p:nvPr>
        </p:nvSpPr>
        <p:spPr>
          <a:xfrm>
            <a:off x="685800" y="4330800"/>
            <a:ext cx="5486400" cy="4101840"/>
          </a:xfrm>
          <a:prstGeom prst="rect">
            <a:avLst/>
          </a:prstGeom>
          <a:noFill/>
          <a:ln w="0">
            <a:noFill/>
          </a:ln>
        </p:spPr>
        <p:txBody>
          <a:bodyPr anchor="t">
            <a:noAutofit/>
          </a:bodyPr>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ow did it get started?</a:t>
            </a:r>
            <a:r>
              <a:rPr b="0" lang="en-US" sz="900" spc="-1" strike="noStrike">
                <a:solidFill>
                  <a:srgbClr val="000000"/>
                </a:solidFill>
                <a:latin typeface="Times New Roman"/>
              </a:rPr>
              <a:t>  Not sure, but hypothesis: Story method at turn of century where T read lit orally to model, S rehearsed and performed.  Some disliked emphasis on literature and felt should be on individual words.  Gradually words became the focus of teaching and evaluating.  Ss assessed on attempts to read words accurately.  Oral reading became primary method and RR was born.</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dition</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teachers learn about RR from observing other teachers and although they know several alternatives, feel they would be “rocking the boat” if they break with tradition.  In interviews with veteran teachers, most explain that they learned about the practice during student teaching and hesitated to give it up for fear of causing problems.  They gradually came to believe that it didn’t hurt kids and therefore continued the practice.  However it can be harmful to kid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assroom Management</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 feel better able to control Ss behavior.  Actually creates more behavior issues: restless, playing with books, distracted, teacher has to refocu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ading Assessment</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king Ss to read aloud in front of others appears to kill 2 bird with 1 stone: students read the story and teachers simultaneously assess students’ reading.  However, when T uses oral reading for assessment, it must be in private.  Reading material “cold” is hard enough w/o having to think about performing for an audience.  In fact, it can cause learners to make more mistakes invalidating any conclusions about their reading ability.  If teachers use these results to design instruction, they could inadvertently plan inappropriate instruction.</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o Save Time</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feel pressured to require Ss to read a set # of stories.  It seems as though asking the ss to read orally once is enough, and then we move on. Cover more stories in oral reading, but act. silent reading is faster.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 Knowing What Else To Do</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ll intentioned and well meaning, but there are other alternatives that are not harmful.  Pt. is students are actively engaged during silent reading and silent reading should be used more frequently.  </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alternatives</a:t>
            </a:r>
            <a:endParaRPr b="0" lang="en-US" sz="900" spc="-1" strike="noStrike">
              <a:solidFill>
                <a:srgbClr val="000000"/>
              </a:solidFill>
              <a:latin typeface="Times New Roman"/>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17E1-5B21-451F-8321-C0289AF9183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6" name="PlaceHolder 1"/>
          <p:cNvSpPr>
            <a:spLocks noGrp="1"/>
          </p:cNvSpPr>
          <p:nvPr>
            <p:ph type="sldImg"/>
          </p:nvPr>
        </p:nvSpPr>
        <p:spPr>
          <a:xfrm>
            <a:off x="1150920" y="684360"/>
            <a:ext cx="4556160" cy="3417840"/>
          </a:xfrm>
          <a:prstGeom prst="rect">
            <a:avLst/>
          </a:prstGeom>
          <a:ln w="0">
            <a:noFill/>
          </a:ln>
        </p:spPr>
      </p:sp>
      <p:sp>
        <p:nvSpPr>
          <p:cNvPr id="30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2 slides are lesson frameworks that are useful for read a selection the first time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opportunities for scaffolding in all: teacher reads to Ss, choral reading, partner or independent rea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23DF-A755-46B3-A15F-2BD027247BA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9" name="PlaceHolder 1"/>
          <p:cNvSpPr>
            <a:spLocks noGrp="1"/>
          </p:cNvSpPr>
          <p:nvPr>
            <p:ph type="sldImg"/>
          </p:nvPr>
        </p:nvSpPr>
        <p:spPr>
          <a:xfrm>
            <a:off x="1150920" y="684360"/>
            <a:ext cx="4556160" cy="3417840"/>
          </a:xfrm>
          <a:prstGeom prst="rect">
            <a:avLst/>
          </a:prstGeom>
          <a:ln w="0">
            <a:noFill/>
          </a:ln>
        </p:spPr>
      </p:sp>
      <p:sp>
        <p:nvSpPr>
          <p:cNvPr id="31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ctivities are meant f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reading of a sele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3835-7E85-4FB5-9435-77ADC0D2E6D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2" name="PlaceHolder 1"/>
          <p:cNvSpPr>
            <a:spLocks noGrp="1"/>
          </p:cNvSpPr>
          <p:nvPr>
            <p:ph type="sldImg"/>
          </p:nvPr>
        </p:nvSpPr>
        <p:spPr>
          <a:xfrm>
            <a:off x="1150920" y="684360"/>
            <a:ext cx="4556160" cy="3417840"/>
          </a:xfrm>
          <a:prstGeom prst="rect">
            <a:avLst/>
          </a:prstGeom>
          <a:ln w="0">
            <a:noFill/>
          </a:ln>
        </p:spPr>
      </p:sp>
      <p:sp>
        <p:nvSpPr>
          <p:cNvPr id="31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for first reading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for emergent or struggling read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BA32-C893-43DD-B52A-27A4D8F870F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150920" y="684360"/>
            <a:ext cx="4556160" cy="3417840"/>
          </a:xfrm>
          <a:prstGeom prst="rect">
            <a:avLst/>
          </a:prstGeom>
          <a:ln w="0">
            <a:noFill/>
          </a:ln>
        </p:spPr>
      </p:sp>
      <p:sp>
        <p:nvSpPr>
          <p:cNvPr id="277"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100000"/>
              </a:lnSpc>
              <a:spcBef>
                <a:spcPts val="451"/>
              </a:spcBef>
              <a:buClr>
                <a:srgbClr val="000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whet students’ appetites for read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eachers need to fill Ss heads with the beauty and rhythm of language.  Through a wide variety of literacture, show Ss what it means to live a full, literate life. **As Friere (1985) says, “Reading is not dancing on top of words.  It is grasping the soul of them.”</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share or perform.</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ometimes sharing is informal (hey, listen to this) and sometimes it’s formal (presentation of a paper). Students need to see the value of reading it the pleasure it can bring.</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help beginning readers better understand how speaking is related to the other language arts and to their live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W,S,L,T all interconnected and integral to everyday life both in and out of school.  Ss begin to see that what is written can be re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A27D-5DAC-47B0-A209-E57E1DBA238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5" name="PlaceHolder 1"/>
          <p:cNvSpPr>
            <a:spLocks noGrp="1"/>
          </p:cNvSpPr>
          <p:nvPr>
            <p:ph type="sldImg"/>
          </p:nvPr>
        </p:nvSpPr>
        <p:spPr>
          <a:xfrm>
            <a:off x="1150920" y="684360"/>
            <a:ext cx="4556160" cy="3417840"/>
          </a:xfrm>
          <a:prstGeom prst="rect">
            <a:avLst/>
          </a:prstGeom>
          <a:ln w="0">
            <a:noFill/>
          </a:ln>
        </p:spPr>
      </p:sp>
      <p:sp>
        <p:nvSpPr>
          <p:cNvPr id="31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ariations: Refrain (I’ll Love You Forever), Impromptu (fun, unpredictable, perform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with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2C23-E29B-4578-872D-A757E577661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8" name="PlaceHolder 1"/>
          <p:cNvSpPr>
            <a:spLocks noGrp="1"/>
          </p:cNvSpPr>
          <p:nvPr>
            <p:ph type="sldImg"/>
          </p:nvPr>
        </p:nvSpPr>
        <p:spPr>
          <a:xfrm>
            <a:off x="1150920" y="684360"/>
            <a:ext cx="4556160" cy="3417840"/>
          </a:xfrm>
          <a:prstGeom prst="rect">
            <a:avLst/>
          </a:prstGeom>
          <a:ln w="0">
            <a:noFill/>
          </a:ln>
        </p:spPr>
      </p:sp>
      <p:sp>
        <p:nvSpPr>
          <p:cNvPr id="31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elopes at tables, pass around, everyone take a slip and practice reading with expression.  Then, when your table is ready, practice your parts in ord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6529-119B-4770-80DB-9916C91CFCF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1" name="PlaceHolder 1"/>
          <p:cNvSpPr>
            <a:spLocks noGrp="1"/>
          </p:cNvSpPr>
          <p:nvPr>
            <p:ph type="sldImg"/>
          </p:nvPr>
        </p:nvSpPr>
        <p:spPr>
          <a:xfrm>
            <a:off x="1150920" y="684360"/>
            <a:ext cx="4556160" cy="3417840"/>
          </a:xfrm>
          <a:prstGeom prst="rect">
            <a:avLst/>
          </a:prstGeom>
          <a:ln w="0">
            <a:noFill/>
          </a:ln>
        </p:spPr>
      </p:sp>
      <p:sp>
        <p:nvSpPr>
          <p:cNvPr id="32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ad the selection silently but to answer questions must locate the section of the text with the answer and read alou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9AD0-145A-411F-8D0A-2BA86EAF2B1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4" name="PlaceHolder 1"/>
          <p:cNvSpPr>
            <a:spLocks noGrp="1"/>
          </p:cNvSpPr>
          <p:nvPr>
            <p:ph type="sldImg"/>
          </p:nvPr>
        </p:nvSpPr>
        <p:spPr>
          <a:xfrm>
            <a:off x="1150920" y="684360"/>
            <a:ext cx="4556160" cy="3417840"/>
          </a:xfrm>
          <a:prstGeom prst="rect">
            <a:avLst/>
          </a:prstGeom>
          <a:ln w="0">
            <a:noFill/>
          </a:ln>
        </p:spPr>
      </p:sp>
      <p:sp>
        <p:nvSpPr>
          <p:cNvPr id="32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different way to do reading group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2BC2-85AB-463B-BD50-3C6EF943284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 name="PlaceHolder 1"/>
          <p:cNvSpPr>
            <a:spLocks noGrp="1"/>
          </p:cNvSpPr>
          <p:nvPr>
            <p:ph type="sldImg"/>
          </p:nvPr>
        </p:nvSpPr>
        <p:spPr>
          <a:xfrm>
            <a:off x="1150920" y="684360"/>
            <a:ext cx="4556160" cy="3417840"/>
          </a:xfrm>
          <a:prstGeom prst="rect">
            <a:avLst/>
          </a:prstGeom>
          <a:ln w="0">
            <a:noFill/>
          </a:ln>
        </p:spPr>
      </p:sp>
      <p:sp>
        <p:nvSpPr>
          <p:cNvPr id="32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udents listen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3EB9-0C79-4A15-A9AD-F6E4B3D4FAB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 name="PlaceHolder 1"/>
          <p:cNvSpPr>
            <a:spLocks noGrp="1"/>
          </p:cNvSpPr>
          <p:nvPr>
            <p:ph type="sldImg"/>
          </p:nvPr>
        </p:nvSpPr>
        <p:spPr>
          <a:xfrm>
            <a:off x="1150920" y="684360"/>
            <a:ext cx="4556160" cy="3417840"/>
          </a:xfrm>
          <a:prstGeom prst="rect">
            <a:avLst/>
          </a:prstGeom>
          <a:ln w="0">
            <a:noFill/>
          </a:ln>
        </p:spPr>
      </p:sp>
      <p:sp>
        <p:nvSpPr>
          <p:cNvPr id="331"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he Popcorn Reading you might be familiar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line or highlight words, phrases, or lines that create a memorable mental pi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ly read these words, phrases, or lines in no particular order, just pop up when you’re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711E-E5AC-4C6E-B0D2-95192E31074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 name="PlaceHolder 1"/>
          <p:cNvSpPr>
            <a:spLocks noGrp="1"/>
          </p:cNvSpPr>
          <p:nvPr>
            <p:ph type="sldImg"/>
          </p:nvPr>
        </p:nvSpPr>
        <p:spPr>
          <a:xfrm>
            <a:off x="1150920" y="684360"/>
            <a:ext cx="4556160" cy="3417840"/>
          </a:xfrm>
          <a:prstGeom prst="rect">
            <a:avLst/>
          </a:prstGeom>
          <a:ln w="0">
            <a:noFill/>
          </a:ln>
        </p:spPr>
      </p:sp>
      <p:sp>
        <p:nvSpPr>
          <p:cNvPr id="33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ilent reading strategy, use whiteboard and mark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B637-F5AC-4445-A094-5B824A4A91E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 name="PlaceHolder 1"/>
          <p:cNvSpPr>
            <a:spLocks noGrp="1"/>
          </p:cNvSpPr>
          <p:nvPr>
            <p:ph type="sldImg"/>
          </p:nvPr>
        </p:nvSpPr>
        <p:spPr>
          <a:xfrm>
            <a:off x="1150920" y="684360"/>
            <a:ext cx="4556160" cy="3417840"/>
          </a:xfrm>
          <a:prstGeom prst="rect">
            <a:avLst/>
          </a:prstGeom>
          <a:ln w="0">
            <a:noFill/>
          </a:ln>
        </p:spPr>
      </p:sp>
      <p:sp>
        <p:nvSpPr>
          <p:cNvPr id="33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aste valuable time choosing partners, set up a simple device like clock budd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DD78-78B5-466B-8A60-4B86BE5BD2B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150920" y="684360"/>
            <a:ext cx="4556160" cy="3417840"/>
          </a:xfrm>
          <a:prstGeom prst="rect">
            <a:avLst/>
          </a:prstGeom>
          <a:ln w="0">
            <a:noFill/>
          </a:ln>
        </p:spPr>
      </p:sp>
      <p:sp>
        <p:nvSpPr>
          <p:cNvPr id="280"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90000"/>
              </a:lnSpc>
              <a:spcBef>
                <a:spcPts val="451"/>
              </a:spcBef>
              <a:buClr>
                <a:srgbClr val="000000"/>
              </a:buClr>
              <a:buFont typeface="Gene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develop listening comprehension and vocabulary.</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As Ss listen to others read aloud, they expand their listening vocabularies.  Provides models of what written lang. sounds like. Huey says, “The ear and not the eye is the nearest gateway to the child’s soul.”</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assist students in developing numerous skills associated with reading.</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Fluency, expression, correct phrasing, all indicators of effective reading.  Oral reading is best to dev.</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promote language learning for students whose first language is not English.</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4 factors for acquisition of 2</a:t>
            </a:r>
            <a:r>
              <a:rPr b="0" lang="en-US" sz="1200" spc="-1" strike="noStrike" baseline="30000">
                <a:solidFill>
                  <a:srgbClr val="000000"/>
                </a:solidFill>
                <a:latin typeface="Geneva"/>
              </a:rPr>
              <a:t>nd</a:t>
            </a:r>
            <a:r>
              <a:rPr b="0" lang="en-US" sz="1200" spc="-1" strike="noStrike">
                <a:solidFill>
                  <a:srgbClr val="000000"/>
                </a:solidFill>
                <a:latin typeface="Geneva"/>
              </a:rPr>
              <a:t> lang: low anxiety environment, repeated practice, comprehensible input, and dramm (McCauley and McCauley, 1992)</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build confidence.</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epeated rehearsal builds confidence and ability to perform in front of others.  Provides time to work through problems for easy reading and focusing on expressing meaning.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further develop comprehension.</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Authors use specific language and typographic cues, oral reading helps Ss use both to gather intended meaning.</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C03B-37F6-4197-81A6-C787BBE8A04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9" name="PlaceHolder 1"/>
          <p:cNvSpPr>
            <a:spLocks noGrp="1"/>
          </p:cNvSpPr>
          <p:nvPr>
            <p:ph type="sldImg"/>
          </p:nvPr>
        </p:nvSpPr>
        <p:spPr>
          <a:xfrm>
            <a:off x="1150920" y="684360"/>
            <a:ext cx="4556160" cy="3417840"/>
          </a:xfrm>
          <a:prstGeom prst="rect">
            <a:avLst/>
          </a:prstGeom>
          <a:ln w="0">
            <a:noFill/>
          </a:ln>
        </p:spPr>
      </p:sp>
      <p:sp>
        <p:nvSpPr>
          <p:cNvPr id="34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omprehension strateg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A199-7759-4F15-A5CD-1688DB70DAB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2" name="PlaceHolder 1"/>
          <p:cNvSpPr>
            <a:spLocks noGrp="1"/>
          </p:cNvSpPr>
          <p:nvPr>
            <p:ph type="sldImg"/>
          </p:nvPr>
        </p:nvSpPr>
        <p:spPr>
          <a:xfrm>
            <a:off x="1150920" y="684360"/>
            <a:ext cx="4556160" cy="3417840"/>
          </a:xfrm>
          <a:prstGeom prst="rect">
            <a:avLst/>
          </a:prstGeom>
          <a:ln w="0">
            <a:noFill/>
          </a:ln>
        </p:spPr>
      </p:sp>
      <p:sp>
        <p:nvSpPr>
          <p:cNvPr id="343"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tached hand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possible ovations and recommendations on board then mode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5C34-99E1-4567-9382-96B078BBB87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5" name="PlaceHolder 1"/>
          <p:cNvSpPr>
            <a:spLocks noGrp="1"/>
          </p:cNvSpPr>
          <p:nvPr>
            <p:ph type="sldImg"/>
          </p:nvPr>
        </p:nvSpPr>
        <p:spPr>
          <a:xfrm>
            <a:off x="1150920" y="684360"/>
            <a:ext cx="4556160" cy="3417840"/>
          </a:xfrm>
          <a:prstGeom prst="rect">
            <a:avLst/>
          </a:prstGeom>
          <a:ln w="0">
            <a:noFill/>
          </a:ln>
        </p:spPr>
      </p:sp>
      <p:sp>
        <p:nvSpPr>
          <p:cNvPr id="34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Read Around with favorite parts, modeling initial pages (2-3 little, 5-6 bigg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E00F-49E6-4564-951B-788308AE1C4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150920" y="684360"/>
            <a:ext cx="4556160" cy="3417840"/>
          </a:xfrm>
          <a:prstGeom prst="rect">
            <a:avLst/>
          </a:prstGeom>
          <a:ln w="0">
            <a:noFill/>
          </a:ln>
        </p:spPr>
      </p:sp>
      <p:sp>
        <p:nvSpPr>
          <p:cNvPr id="283"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100000"/>
              </a:lnSpc>
              <a:spcBef>
                <a:spcPts val="451"/>
              </a:spcBef>
              <a:buClr>
                <a:srgbClr val="000000"/>
              </a:buClr>
              <a:buFont typeface="Genev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determine the strategies used when read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Oral reading is often used as a window for how children read on their own (Goodman).  T &amp; S listen, observe, and take notes to determine which strategies were used and which strategies need more developmen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provide a means of shared reading progress with self and other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hildren demonstrate growth to themselves, parents, and other stakeholders by reading aloud.  Reading on tape and creating own graphs is an excellent way for SS to see own growth and progres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provide children with additional reading time necessary for ongoing reading growth.</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esearch shows that increasing reading time increases comprehension.  Oral reading practice is a good way to increase practice time.  Ss are engaged in authentic, meaningful practice.  To find a perfect poem, you must read man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address national reading and language arts standard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d 4 of IRA/NCTE calls for Ss to use spoken language in different ways so they can communicate with diff. audiences for a variety of purposes.  OR is perf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D3B8-87CD-4CB7-B594-9710E918B3B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8" name="PlaceHolder 1"/>
          <p:cNvSpPr>
            <a:spLocks noGrp="1"/>
          </p:cNvSpPr>
          <p:nvPr>
            <p:ph type="sldImg"/>
          </p:nvPr>
        </p:nvSpPr>
        <p:spPr>
          <a:xfrm>
            <a:off x="1150920" y="684360"/>
            <a:ext cx="4556160" cy="3417840"/>
          </a:xfrm>
          <a:prstGeom prst="rect">
            <a:avLst/>
          </a:prstGeom>
          <a:ln w="0">
            <a:noFill/>
          </a:ln>
        </p:spPr>
      </p:sp>
      <p:sp>
        <p:nvSpPr>
          <p:cNvPr id="349"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doing repeated readings with Readers Theatre made twice the gains in reading rate than the control group, even thought they were focused on expressive, meaning-filled reading and not spe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de significantly greater progress on an IRI, which included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BD7B-AC17-4223-A88E-33E0B09A4C8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150920" y="684360"/>
            <a:ext cx="4556160" cy="3417840"/>
          </a:xfrm>
          <a:prstGeom prst="rect">
            <a:avLst/>
          </a:prstGeom>
          <a:ln w="0">
            <a:noFill/>
          </a:ln>
        </p:spPr>
      </p:sp>
      <p:sp>
        <p:nvSpPr>
          <p:cNvPr id="28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walked into a primary classroom and asked the Ss, “Why do you think your teacher has you read aloud?”  Most Ss would say something like “So she can check my reading.”  Let’s tell them why we’re having them to read aloud.  To build fluency?  To build confidence?  To improve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 Script Her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1B08-D7FC-4A39-BE83-98D07C00052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51" name="PlaceHolder 1"/>
          <p:cNvSpPr>
            <a:spLocks noGrp="1"/>
          </p:cNvSpPr>
          <p:nvPr>
            <p:ph type="sldImg"/>
          </p:nvPr>
        </p:nvSpPr>
        <p:spPr>
          <a:xfrm>
            <a:off x="1150920" y="684360"/>
            <a:ext cx="4556160" cy="3417840"/>
          </a:xfrm>
          <a:prstGeom prst="rect">
            <a:avLst/>
          </a:prstGeom>
          <a:ln w="0">
            <a:noFill/>
          </a:ln>
        </p:spPr>
      </p:sp>
      <p:sp>
        <p:nvSpPr>
          <p:cNvPr id="352"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reate scripts from familiar nursery rhymes, fairy tales, or weekly readers/newspapers to perform in the style of an old-fashioned radio announc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a trade book into a script.  Bad Bo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ooks already formatted for scripts such 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ad to Me and I’ll Read to You se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Fleishmann’s Poems for Two Voices and Poems for Seven Vo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3779-AD23-460F-BC13-DAF064DCC77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150920" y="684360"/>
            <a:ext cx="4556160" cy="3417840"/>
          </a:xfrm>
          <a:prstGeom prst="rect">
            <a:avLst/>
          </a:prstGeom>
          <a:ln w="0">
            <a:noFill/>
          </a:ln>
        </p:spPr>
      </p:sp>
      <p:sp>
        <p:nvSpPr>
          <p:cNvPr id="289"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eracy Dictionary defines RRR as “the outmoded practice of calling on Ss to read one after the other”.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provides students with an inaccurate view of read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n real life, we are rarely called upon to read before a group without preparing in advance.  When we do read in front of a group, we expect them to listen instead of following along.  Students also dev. a misconception that all reading must be word perfec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potentially cause faulty reading habits instead of effective reading strategie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s read at different rates with eyes making stops across page when they focus on 3-4 words.  If a S is expected to follow along as another reads, the reader absorbs only 2-3 words at each stop, repeats them several times, and identifies so few words that the meaning is los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cause unnecessary subvocalization.</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While one reader is reading aloud, others are expected to follow along, reading silently.  B/C oral reading is slower than silent reading, silent readers are encouraged to subvocalize every word.  This may become internalized causing a slower reading rat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3084-C20E-46F0-A105-8CA14C99C90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150920" y="684360"/>
            <a:ext cx="4556160" cy="3417840"/>
          </a:xfrm>
          <a:prstGeom prst="rect">
            <a:avLst/>
          </a:prstGeom>
          <a:ln w="0">
            <a:noFill/>
          </a:ln>
        </p:spPr>
      </p:sp>
      <p:sp>
        <p:nvSpPr>
          <p:cNvPr id="292"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90000"/>
              </a:lnSpc>
              <a:spcBef>
                <a:spcPts val="451"/>
              </a:spcBef>
              <a:buClr>
                <a:srgbClr val="000000"/>
              </a:buClr>
              <a:buFont typeface="Gene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cause inattentive behaviors, leading to discipline problem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Although Ss are expected to follow along, they rarely do.  Instead, they’re reading ahead because they’re practicing their part or not paying attn at all.  Little attn is given to the meaning of the passage.  Some kids are reprimanded for not following along, leading to poor view of reading.</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work against all students developing to their full potential.</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esearch by Allington has shown that when struggling readers make mistakes, they are corrected by others before they can correct themselves.  Don’t develop self correction skills.  One of the most important skills is learning to monitor yourself.</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onsumes valuable classroom time that could be spent on other meaningful activitie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C oral reading takes longer than silent reading, the # of words a child reads will decrease. Slower rate + time spent on keeping kids on track = fewer words read throughout the school year.</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be a source of anxiety and embarrassment for student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udents are anxious to save face and forget the real purpose of reading is to comprehend.</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hamper listening comprehension.</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s looking ahead bc they’re bored or pre-reading, not listen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F275-AD15-4BEB-87FD-4D914DCB536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4" name="PlaceHolder 1"/>
          <p:cNvSpPr>
            <a:spLocks noGrp="1"/>
          </p:cNvSpPr>
          <p:nvPr>
            <p:ph type="sldImg"/>
          </p:nvPr>
        </p:nvSpPr>
        <p:spPr>
          <a:xfrm>
            <a:off x="1150920" y="684360"/>
            <a:ext cx="4556160" cy="3417840"/>
          </a:xfrm>
          <a:prstGeom prst="rect">
            <a:avLst/>
          </a:prstGeom>
          <a:ln w="0">
            <a:noFill/>
          </a:ln>
        </p:spPr>
      </p:sp>
      <p:sp>
        <p:nvSpPr>
          <p:cNvPr id="29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12 reasons why having Ss read aloud is important, but RR does not meet those nee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6E56B-D35D-4FAB-90F2-7DBB86925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DE72-61C1-45D5-BC8F-CB81080B7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11F50-A775-4479-9A2D-3D953FFEA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96D34-72E3-4F0F-95C1-ED9D324EB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78674-5633-4C49-99AF-4AEB99A91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88FBA-1CCA-4085-858B-A2BEEA010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EE63A-9131-43E2-8495-4B36EF673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04E09-3F34-41AF-9435-BE85A57C9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E9689-CD77-4B59-B954-138394F7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6ABA5-9D04-4741-8A9E-80543EED5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C4B54-A4F0-4C5C-AE40-21B3AEA0C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6E28F-BA00-4B32-8B94-A9E6BFC3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F4192-2272-42D3-AE14-6E708070E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3551-CCA2-4193-8DA6-C1036D42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2C801-837C-4F83-AF04-132281CAD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B9790-784B-4E4D-9E83-2D88091A1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418FB-D075-47FF-9493-6562312D3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8B843-5922-42A9-8059-C7C34B317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93F2-E6D0-4219-8213-9E146156C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7237-A71D-436B-BDBF-6B0598612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32C87-6DDB-4EAA-8762-1B674A4CA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1D0A-7E46-4F90-A24F-FA290C532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FC0A-5ADF-4756-B28E-FA544978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CC0F6-A61E-4786-9B0C-CC596AF21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96DB-D08C-4EDA-BEC8-FC3C47F2C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2E0F-2D59-48D1-BEA2-ADFC4F02D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aaronshep.com/rt/" TargetMode="External"/><Relationship Id="rId2" Type="http://schemas.openxmlformats.org/officeDocument/2006/relationships/hyperlink" Target="http://www.readers-theatre.com/" TargetMode="External"/><Relationship Id="rId3" Type="http://schemas.openxmlformats.org/officeDocument/2006/relationships/hyperlink" Target="http://www.geocities.com/EnchantedForest/Tower/3235" TargetMode="External"/><Relationship Id="rId4" Type="http://schemas.openxmlformats.org/officeDocument/2006/relationships/hyperlink" Target="http://www.storycart.com/" TargetMode="External"/><Relationship Id="rId5" Type="http://schemas.openxmlformats.org/officeDocument/2006/relationships/hyperlink" Target="http://loiswalker.com/catalog/guidesamples.html" TargetMode="External"/><Relationship Id="rId6" Type="http://schemas.openxmlformats.org/officeDocument/2006/relationships/hyperlink" Target="http://www.readinglady.com/" TargetMode="External"/><Relationship Id="rId7" Type="http://schemas.openxmlformats.org/officeDocument/2006/relationships/hyperlink" Target="http://www.lisablau.com/" TargetMode="External"/><Relationship Id="rId8" Type="http://schemas.openxmlformats.org/officeDocument/2006/relationships/hyperlink" Target="http://home.sprynet.com/~palermo/radiokit.htm" TargetMode="External"/><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514240"/>
            <a:ext cx="7772400" cy="11430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neva"/>
              </a:rPr>
              <a:t>Round Robin Reading Rethought</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r. Kristen Pennycuff Trent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kpennycuff@tntech.edu</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	</a:t>
            </a:r>
            <a:r>
              <a:rPr b="0" lang="en-US" sz="2800" spc="-1" strike="noStrike">
                <a:solidFill>
                  <a:srgbClr val="000000"/>
                </a:solidFill>
                <a:latin typeface="Geneva"/>
              </a:rPr>
              <a:t>“</a:t>
            </a:r>
            <a:r>
              <a:rPr b="0" lang="en-US" sz="2800" spc="-1" strike="noStrike">
                <a:solidFill>
                  <a:srgbClr val="000000"/>
                </a:solidFill>
                <a:latin typeface="Geneva"/>
              </a:rPr>
              <a:t>After lunch Miss Tyler called the Rockets to the reading circle.  I’m a Rocket.  Rosemary read the first sentence.  And Tom read the next one.  They didn’t make any mistakes today.  When it was my turn, I said, ‘Sally was a horse.’  Miss Tyler said, ‘Ronald, that’s not right.’  Rosemary said, ‘Sally saw a house.’  And Tom said, ‘Some Rocket you are.’”</a:t>
            </a:r>
            <a:r>
              <a:rPr b="0" lang="en-US" sz="3200" spc="-1" strike="noStrike">
                <a:solidFill>
                  <a:srgbClr val="000000"/>
                </a:solidFill>
                <a:latin typeface="Geneva"/>
              </a:rPr>
              <a:t>	</a:t>
            </a:r>
            <a:r>
              <a:rPr b="0" lang="en-US" sz="3200" spc="-1" strike="noStrike">
                <a:solidFill>
                  <a:srgbClr val="000000"/>
                </a:solidFill>
                <a:latin typeface="Geneva"/>
              </a:rPr>
              <a:t>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00"/>
                </a:solidFill>
                <a:latin typeface="Geneva"/>
              </a:rPr>
              <a:t>	</a:t>
            </a:r>
            <a:r>
              <a:rPr b="0" lang="en-US" sz="3200" spc="-1" strike="noStrike">
                <a:solidFill>
                  <a:srgbClr val="000000"/>
                </a:solidFill>
                <a:latin typeface="Geneva"/>
              </a:rPr>
              <a:t>	</a:t>
            </a:r>
            <a:r>
              <a:rPr b="0" lang="en-US" sz="3200" spc="-1" strike="noStrike">
                <a:solidFill>
                  <a:srgbClr val="000000"/>
                </a:solidFill>
                <a:latin typeface="Geneva"/>
              </a:rPr>
              <a:t>	</a:t>
            </a:r>
            <a:r>
              <a:rPr b="0" lang="en-US" sz="3200" spc="-1" strike="noStrike">
                <a:solidFill>
                  <a:srgbClr val="000000"/>
                </a:solidFill>
                <a:latin typeface="Geneva"/>
              </a:rPr>
              <a:t>-2nd grad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graders’ reading growth</a:t>
            </a:r>
            <a:endParaRPr b="0" lang="en-US" sz="2800" spc="-1" strike="noStrike">
              <a:solidFill>
                <a:srgbClr val="000000"/>
              </a:solidFill>
              <a:latin typeface="Comic Sans MS"/>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ditional round robin reading vs shared reading</a:t>
            </a:r>
            <a:endParaRPr b="0" lang="en-US" sz="2800" spc="-1" strike="noStrike">
              <a:solidFill>
                <a:srgbClr val="000000"/>
              </a:solidFill>
              <a:latin typeface="Comic Sans MS"/>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ed reading </a:t>
            </a:r>
            <a:endParaRPr b="0" lang="en-US" sz="2800" spc="-1" strike="noStrike">
              <a:solidFill>
                <a:srgbClr val="000000"/>
              </a:solidFill>
              <a:latin typeface="Comic Sans MS"/>
            </a:endParaRPr>
          </a:p>
          <a:p>
            <a:pPr lvl="1" marL="639000" indent="-245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ved average students from 50</a:t>
            </a:r>
            <a:r>
              <a:rPr b="0" lang="en-US" sz="2400" spc="-1" strike="noStrike" baseline="30000">
                <a:solidFill>
                  <a:srgbClr val="000000"/>
                </a:solidFill>
                <a:latin typeface="Comic Sans MS"/>
              </a:rPr>
              <a:t>th</a:t>
            </a:r>
            <a:r>
              <a:rPr b="0" lang="en-US" sz="2400" spc="-1" strike="noStrike">
                <a:solidFill>
                  <a:srgbClr val="000000"/>
                </a:solidFill>
                <a:latin typeface="Comic Sans MS"/>
              </a:rPr>
              <a:t> to 80</a:t>
            </a:r>
            <a:r>
              <a:rPr b="0" lang="en-US" sz="2400" spc="-1" strike="noStrike" baseline="30000">
                <a:solidFill>
                  <a:srgbClr val="000000"/>
                </a:solidFill>
                <a:latin typeface="Comic Sans MS"/>
              </a:rPr>
              <a:t>th</a:t>
            </a:r>
            <a:r>
              <a:rPr b="0" lang="en-US" sz="2400" spc="-1" strike="noStrike">
                <a:solidFill>
                  <a:srgbClr val="000000"/>
                </a:solidFill>
                <a:latin typeface="Comic Sans MS"/>
              </a:rPr>
              <a:t> percentile in word analysis (letter sound correspondences) and they became 20% better in oral reading than the round robin group.</a:t>
            </a:r>
            <a:endParaRPr b="0" lang="en-US" sz="2400" spc="-1" strike="noStrike">
              <a:solidFill>
                <a:srgbClr val="000000"/>
              </a:solidFill>
              <a:latin typeface="Comic Sans MS"/>
            </a:endParaRPr>
          </a:p>
          <a:p>
            <a:pPr lvl="1" marL="639000" indent="-245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ed below average students perform 41% better on oral reading than the round robin group.</a:t>
            </a:r>
            <a:endParaRPr b="0" lang="en-US" sz="2400" spc="-1" strike="noStrike">
              <a:solidFill>
                <a:srgbClr val="000000"/>
              </a:solidFill>
              <a:latin typeface="Comic Sans MS"/>
            </a:endParaRPr>
          </a:p>
          <a:p>
            <a:pPr lvl="2" marL="982800" indent="-19656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dredge, Reutzel, and Hollingsworth (1996)</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Does Round Robin Persist?</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di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Manag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ing Assess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Save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Knowing What Else To D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First Reading of a Selection </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ver have students read aloud a selection col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provide time for students to first read silently or have the teacher read the selection or part of the selection firs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rst Reading of a Selection</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ency Development Less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to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and students discuss selection and express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read chorall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read as partners</a:t>
            </a:r>
            <a:endParaRPr b="0" lang="en-US" sz="2000" spc="-1" strike="noStrike">
              <a:solidFill>
                <a:srgbClr val="000000"/>
              </a:solidFill>
              <a:latin typeface="Comic Sans MS"/>
            </a:endParaRPr>
          </a:p>
        </p:txBody>
      </p:sp>
      <p:sp>
        <p:nvSpPr>
          <p:cNvPr id="182"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l Recitation Less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to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discuss and summarize selec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horally rea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practice in pairs or partne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rst Reading of a Selec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ed Oral Reading</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to students and stops for discuss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and students read chorally</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read as partners</a:t>
            </a:r>
            <a:endParaRPr b="0" lang="en-US" sz="2000" spc="-1" strike="noStrike">
              <a:solidFill>
                <a:srgbClr val="000000"/>
              </a:solidFill>
              <a:latin typeface="Comic Sans MS"/>
            </a:endParaRPr>
          </a:p>
        </p:txBody>
      </p:sp>
      <p:sp>
        <p:nvSpPr>
          <p:cNvPr id="185"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ency Oriented Reading Selection</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basal selec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discus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and students practice rereading all or part of selec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daily read independently in easy tex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ategies for Practice Reading of a Previously Read S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Read it again and agai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wa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a col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mous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mons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low</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d</a:t>
            </a:r>
            <a:endParaRPr b="0" lang="en-US" sz="2800" spc="-1" strike="noStrike">
              <a:solidFill>
                <a:srgbClr val="000000"/>
              </a:solidFill>
              <a:latin typeface="Comic Sans MS"/>
            </a:endParaRPr>
          </a:p>
        </p:txBody>
      </p:sp>
      <p:sp>
        <p:nvSpPr>
          <p:cNvPr id="190"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g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pp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robo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 vo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vo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sty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ollaborative Reading</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teacher reads the stor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group reads the story aloud with the teach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group reads the story aloud in pair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dividuals read the story aloud to the teach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Echo Reading</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eacher reads a line of the story.</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echo the teacher’s model by reading the same line, imitating the teacher’s intonation and phrasing.</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ater, the teacher reads a whole paragraph and students ech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12 Reasons </a:t>
            </a:r>
            <a:br>
              <a:rPr sz="4400"/>
            </a:br>
            <a:r>
              <a:rPr b="0" lang="en-US" sz="4400" spc="-1" strike="noStrike">
                <a:solidFill>
                  <a:srgbClr val="000000"/>
                </a:solidFill>
                <a:latin typeface="Geneva"/>
              </a:rPr>
              <a:t>for Using Oral Reading</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  To whet students’ appetites for read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  To share or perfor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3.  To help beginning readers better understand how speaking is related to the other language arts and to their live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horal Reading</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whole class reads together.</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Variations:</a:t>
            </a:r>
            <a:endParaRPr b="0" lang="en-US" sz="3200" spc="-1" strike="noStrike">
              <a:solidFill>
                <a:srgbClr val="000000"/>
              </a:solidFill>
              <a:latin typeface="Comic Sans MS"/>
            </a:endParaRPr>
          </a:p>
          <a:p>
            <a:pPr lvl="1" marL="743040" indent="-28584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irls and boys alternate reading</a:t>
            </a:r>
            <a:endParaRPr b="0" lang="en-US" sz="2800" spc="-1" strike="noStrike">
              <a:solidFill>
                <a:srgbClr val="000000"/>
              </a:solidFill>
              <a:latin typeface="Comic Sans MS"/>
            </a:endParaRPr>
          </a:p>
          <a:p>
            <a:pPr lvl="1" marL="743040" indent="-28584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ows/Tables alternate read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ut-Apart Story</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story is cut into sections.  One section for each group member.</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practice their section silently.  </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ach section is read aloud in seque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Simultaneous Oral Reading with Whisper Phones</a:t>
            </a:r>
            <a:endParaRPr b="0" lang="en-US" sz="40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read individually into Whisper Phone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ith a Whisper Phone the sound is immediately repeated back to the student, and background noise is diminished.</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eacher moves around group listening to individual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f student finishes, (s)he rereads until teacher gives the signal to sto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First Read Silently</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fter silent reading, students use oral reading to demonstrate skills in locating answers to specific questions or challenges set forth by the teacher, e.g. illustrating character mood, finding supporting details for making predictions, identifying aspects of the author’s style, and so 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Self-Selected Titles</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bring self-selected titles to the reading group.</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ach is encouraged to tell something about his unique book and to read aloud an interesting portion (which he has already read silently and practiced for fluenc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Jigsaw</a:t>
            </a:r>
            <a:endParaRPr b="0" lang="en-US" sz="4400" spc="-1" strike="noStrike">
              <a:solidFill>
                <a:srgbClr val="000000"/>
              </a:solidFill>
              <a:latin typeface="Comic Sans MS"/>
            </a:endParaRPr>
          </a:p>
        </p:txBody>
      </p:sp>
      <p:sp>
        <p:nvSpPr>
          <p:cNvPr id="206"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Divide class into home group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ssign each person in the home group an “expert” number.</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udents reassemble into the “expert” groups (that correspond with the number they were assigned) to practice orally reading their assigned page or story.  Students work together to decode unknown words and practice expression.</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Experts return to home groups, and each home group member shares or reads aloud his/her assignment.</a:t>
            </a:r>
            <a:r>
              <a:rPr b="0" lang="en-US" sz="3200" spc="-1" strike="noStrike">
                <a:solidFill>
                  <a:srgbClr val="000000"/>
                </a:solidFill>
                <a:latin typeface="Geneva"/>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Popcorn Reading</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highlight words, phrases, or sentences that create for them a memorable mental picture as they silently read the selection.</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ighlighted phrases or sentences are then shared orally by readers who “pop up” in random order.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Everyone Read To (ERT)</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teacher tells students how much to read silently.  While students read the teacher writes an open-ended comprehension question on the board.</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udents read the segment and then think about question on board.</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udents share their answers with a partner or with the clas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teacher assigns the next section to rea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Read Around</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read the story silently.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n students are invited to look back through the story to find at least one favorite sentence or paragraph that they would like to share with other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practice reading their selection silently.</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read their selections aloud to the grou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Paired or Partner Reading</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neva"/>
              </a:rPr>
              <a:t>Paired Reading</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luent reader with less fluent reader</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egin reading simultaneousl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ignal for when the less fluent reader wants to read alone</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ack to simultaneous reading if experiencing difficulty</a:t>
            </a:r>
            <a:endParaRPr b="0" lang="en-US" sz="2400" spc="-1" strike="noStrike">
              <a:solidFill>
                <a:srgbClr val="000000"/>
              </a:solidFill>
              <a:latin typeface="Comic Sans MS"/>
            </a:endParaRPr>
          </a:p>
        </p:txBody>
      </p:sp>
      <p:sp>
        <p:nvSpPr>
          <p:cNvPr id="215"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neva"/>
              </a:rPr>
              <a:t>Partner Reading</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oth partners equally involve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lternating page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ake turns reading entire selectio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Read choral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4.  To develop listening comprehension and vocabulary.</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5.  To assist students in developing numerous skills associated with readi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6.  To promote language learning for students whose first language is not Englis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7.  To build confidenc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8.  To further develop comprehen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Partner Reading </a:t>
            </a:r>
            <a:br>
              <a:rPr sz="4400"/>
            </a:br>
            <a:r>
              <a:rPr b="0" lang="en-US" sz="4400" spc="-1" strike="noStrike">
                <a:solidFill>
                  <a:srgbClr val="000000"/>
                </a:solidFill>
                <a:latin typeface="Geneva"/>
              </a:rPr>
              <a:t>with “Say Something”</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ne partner reads the first paragraph while the partner follows along and listen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en the reader finishes, the listener must “say something” about what was rea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partners switch rol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OREO Partner Reading</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take turns reading one page at a time with a partner.</a:t>
            </a: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artners list two ‘o’vations and one ‘re’commendation on the OREO recording sheet.</a:t>
            </a: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xample ovations:  “Read with expression.” “Self-corrected.”</a:t>
            </a:r>
            <a:endParaRPr b="0" lang="en-US" sz="2800" spc="-1" strike="noStrike">
              <a:solidFill>
                <a:srgbClr val="000000"/>
              </a:solidFill>
              <a:latin typeface="Comic Sans MS"/>
            </a:endParaRPr>
          </a:p>
          <a:p>
            <a:pPr marL="322200" indent="-32220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xample recommendation:  “Think about what makes sense.”</a:t>
            </a:r>
            <a:r>
              <a:rPr b="0" lang="en-US" sz="3200" spc="-1" strike="noStrike">
                <a:solidFill>
                  <a:srgbClr val="000000"/>
                </a:solidFill>
                <a:latin typeface="Geneva"/>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umulative Choral Reading</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ne student begins reading the passage.</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00"/>
                </a:solidFill>
                <a:latin typeface="Geneva"/>
              </a:rPr>
              <a:t>A second student joins in on the second line.</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 third student joins in on the third line and so 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The Pet Shop</a:t>
            </a:r>
            <a:br>
              <a:rPr sz="4400"/>
            </a:br>
            <a:r>
              <a:rPr b="0" lang="en-US" sz="4400" spc="-1" strike="noStrike">
                <a:solidFill>
                  <a:srgbClr val="000000"/>
                </a:solidFill>
                <a:latin typeface="Geneva"/>
              </a:rPr>
              <a:t>By Brenda B. Covert</a:t>
            </a: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The sun had come up.  Birds sang in the trees.  Hunter and Sally went down the street.  Their mother was with them.  She had said they could get a pe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I cannot wait to see the pets!” Sally said.  She wanted a cat.  Hunter wanted a frog or a snak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Guidelines for </a:t>
            </a:r>
            <a:br>
              <a:rPr sz="4400"/>
            </a:br>
            <a:r>
              <a:rPr b="0" lang="en-US" sz="4400" spc="-1" strike="noStrike">
                <a:solidFill>
                  <a:srgbClr val="000000"/>
                </a:solidFill>
                <a:latin typeface="Geneva"/>
              </a:rPr>
              <a:t>Responding to Miscues</a:t>
            </a:r>
            <a:endParaRPr b="0" lang="en-US" sz="4400" spc="-1" strike="noStrike">
              <a:solidFill>
                <a:srgbClr val="000000"/>
              </a:solidFill>
              <a:latin typeface="Comic Sans MS"/>
            </a:endParaRPr>
          </a:p>
        </p:txBody>
      </p:sp>
      <p:sp>
        <p:nvSpPr>
          <p:cNvPr id="22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1.  Do not correct miscues that do not disrupt meaning.</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  If the miscue disrupts meaning, give the student time to self-correct it.  Wait until the end of the sentence or paragraph.</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3.  Model self-monitoring behavior and meaning making. (“That didn’t make sense, did it?  Let’s try that agai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4.  Suggest or demonstrate an appropriate strategy. (“Let’s skip that word and come back to it.”  “Look at what it starts with.” “Let’s look at this chunk of the word.”)</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5.  Praise appropriate strategy use. (“You did a great job of looking at the picture to help you!”  “I like the way you went back and read that again when it didn’t make sens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6.  Tell the child the word when appropriat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7.  Do not let the reading become slow, labored, and unpleasant.  Take over the reading, do echo reading, or take turns reading with the student; then choose an easier text for the next time.  Always make reading a pleasurable experie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Comments?</a:t>
            </a:r>
            <a:endParaRPr b="0" lang="en-US" sz="44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19520"/>
            <a:ext cx="7772400" cy="121896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Broadway"/>
              </a:rPr>
              <a:t>Readers' Theater</a:t>
            </a:r>
            <a:br>
              <a:rPr sz="4800"/>
            </a:br>
            <a:endParaRPr b="0" lang="en-US" sz="4800" spc="-1" strike="noStrike">
              <a:solidFill>
                <a:srgbClr val="000000"/>
              </a:solidFill>
              <a:latin typeface="Comic Sans MS"/>
            </a:endParaRPr>
          </a:p>
        </p:txBody>
      </p:sp>
      <p:sp>
        <p:nvSpPr>
          <p:cNvPr id="231" name="PlaceHolder 2"/>
          <p:cNvSpPr>
            <a:spLocks noGrp="1"/>
          </p:cNvSpPr>
          <p:nvPr>
            <p:ph type="subTitle"/>
          </p:nvPr>
        </p:nvSpPr>
        <p:spPr>
          <a:xfrm>
            <a:off x="1523520" y="388584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Broadway"/>
              </a:rPr>
              <a:t>Dr. Kristen Pennycuff Trent</a:t>
            </a:r>
            <a:br>
              <a:rPr sz="2800"/>
            </a:br>
            <a:r>
              <a:rPr b="0" lang="en-US" sz="2800" spc="-1" strike="noStrike">
                <a:solidFill>
                  <a:srgbClr val="000000"/>
                </a:solidFill>
                <a:latin typeface="Broadway"/>
              </a:rPr>
              <a:t>kpennycuff@tntech.edu</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Readers’ Theater?</a:t>
            </a:r>
            <a:endParaRPr b="0" lang="en-US" sz="4400" spc="-1" strike="noStrike">
              <a:solidFill>
                <a:srgbClr val="000000"/>
              </a:solidFill>
              <a:latin typeface="Comic Sans MS"/>
            </a:endParaRPr>
          </a:p>
        </p:txBody>
      </p:sp>
      <p:sp>
        <p:nvSpPr>
          <p:cNvPr id="233"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ript read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voice to make the performance meaningful</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4"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n’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not putting on a pla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costumes, props, or scenery requir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9.  To determine the strategies used when readi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0.  To provide a means of shared reading progress with self and others.</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1.  To provide children with additional reading time necessary for ongoing reading growt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2.  To address national reading and language arts standar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Readers' Theater?</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n authentic, entertaining, and educationally powerful way to read and communicate meani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portunity for students to practice reading in multiple and meaningful way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ields improvements in students’ word recognition, fluency and comprehen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Use Readers’ Theater?</a:t>
            </a:r>
            <a:endParaRPr b="0" lang="en-US" sz="36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sk myself, what would make me want to engage in repeated reading?  To improve my rate of reading?  Not really.  What would really inspire me to engage in repeated reading or rehearsal is performance.  If I were to give an oral reading of a passage, I would most certainly have an incentive to practice, rehearse, or engage in repeated readings.  All of us, at one time or another, have read for an audience.  It is likely that we practiced in advance of that reading, and if we didn’t it is likely that we wish we had.”</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sinski, 2006</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Use Readers’ Theater?</a:t>
            </a:r>
            <a:endParaRPr b="0" lang="en-US" sz="36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grader Lucia wrote in her journal, “I never thought I could be a star, but I was the best reader toda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41" name="Picture 4" descr="MCj04079000000[1]"/>
          <p:cNvPicPr/>
          <p:nvPr/>
        </p:nvPicPr>
        <p:blipFill>
          <a:blip r:embed="rId1"/>
          <a:stretch/>
        </p:blipFill>
        <p:spPr>
          <a:xfrm>
            <a:off x="4114800" y="3886200"/>
            <a:ext cx="1771560" cy="1841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second grade classrooms over a ten week period</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ty minutes a day to Readers' Theater instruction, practice and performanc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exhibited fluency gain of 17 words per minute in reading unrehearsed texts</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gained one to two grade levels on comprehension scores on IRIs</a:t>
            </a:r>
            <a:endParaRPr b="0" lang="en-US" sz="2800" spc="-1" strike="noStrike">
              <a:solidFill>
                <a:srgbClr val="000000"/>
              </a:solidFill>
              <a:latin typeface="Comic Sans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Strecker, Roser &amp; Martinez, 1999</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uggling second graders who rehearsed and then performed poetry and other performance texts made significantly greater gains in reading rate than students reading but not rehearsing and performing the same material.</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sinski, Padak, Linek, and Sturevant, 1994</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ect for ELL student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ser, 2001</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purpose and motivation for all student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epard, 1997</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ng scripts involves students in demonstrating comprehension, summarizing, synthesizing, and communicating information</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ynn, 2004 and 2005</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021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9" name="PlaceHolder 2"/>
          <p:cNvSpPr>
            <a:spLocks noGrp="1"/>
          </p:cNvSpPr>
          <p:nvPr>
            <p:ph/>
          </p:nvPr>
        </p:nvSpPr>
        <p:spPr>
          <a:xfrm>
            <a:off x="1371600" y="837720"/>
            <a:ext cx="6858000" cy="487692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 Exploring in Books</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1: Explore the world, discover wh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a:t>
            </a:r>
            <a:r>
              <a:rPr b="0" lang="en-US" sz="2000" spc="-1" strike="noStrike">
                <a:solidFill>
                  <a:srgbClr val="000000"/>
                </a:solidFill>
                <a:latin typeface="Comic Sans MS"/>
              </a:rPr>
              <a:t>: </a:t>
            </a:r>
            <a:r>
              <a:rPr b="0" lang="en-US" sz="2000" spc="-1" strike="noStrike">
                <a:solidFill>
                  <a:srgbClr val="ff0000"/>
                </a:solidFill>
                <a:latin typeface="Comic Sans MS"/>
              </a:rPr>
              <a:t>Planets whirl about the sk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3: Make new friends and meet new fac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a:t>
            </a:r>
            <a:r>
              <a:rPr b="0" lang="en-US" sz="2000" spc="-1" strike="noStrike">
                <a:solidFill>
                  <a:srgbClr val="000000"/>
                </a:solidFill>
                <a:latin typeface="Comic Sans MS"/>
              </a:rPr>
              <a:t>: </a:t>
            </a:r>
            <a:r>
              <a:rPr b="0" lang="en-US" sz="2000" spc="-1" strike="noStrike">
                <a:solidFill>
                  <a:srgbClr val="ff0000"/>
                </a:solidFill>
                <a:latin typeface="Comic Sans MS"/>
              </a:rPr>
              <a:t>Read of far-off golden plac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2: How people live, and how fairies loo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4: All the world is in a boo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http:www.lisablau.com/scriptomonth.html</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oing the Book”</a:t>
            </a: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ppropriate for kindergarten and first grad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 popular follow-up to reading is the reenacting of the book, with various children playing different parts as the rest of the class or the teacher reads or tells the stor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apting Basal Stories for Readers' Theater</a:t>
            </a: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a story with peppy dialogue, a little action, humor, lively narration, and several par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e copies of the story (1 to 3 pages of the story may be enoug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light spoken parts in different colo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light narrator parts in another colo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gn parts, practice, and perform.</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 Creative</a:t>
            </a:r>
            <a:endParaRPr b="0" lang="en-US" sz="4400" spc="-1" strike="noStrike">
              <a:solidFill>
                <a:srgbClr val="000000"/>
              </a:solidFill>
              <a:latin typeface="Comic Sans MS"/>
            </a:endParaRPr>
          </a:p>
        </p:txBody>
      </p:sp>
      <p:sp>
        <p:nvSpPr>
          <p:cNvPr id="255"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can take an interesting article in the newspaper and write their own scrip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e story from the literature book and write script from the view of a supporting character. </a:t>
            </a:r>
            <a:endParaRPr b="0" lang="en-US" sz="2400" spc="-1" strike="noStrike">
              <a:solidFill>
                <a:srgbClr val="000000"/>
              </a:solidFill>
              <a:latin typeface="Comic Sans MS"/>
            </a:endParaRPr>
          </a:p>
        </p:txBody>
      </p:sp>
      <p:pic>
        <p:nvPicPr>
          <p:cNvPr id="256" name="Picture 4" descr="j0229729"/>
          <p:cNvPicPr/>
          <p:nvPr/>
        </p:nvPicPr>
        <p:blipFill>
          <a:blip r:embed="rId1"/>
          <a:stretch/>
        </p:blipFill>
        <p:spPr>
          <a:xfrm>
            <a:off x="5032440" y="2635200"/>
            <a:ext cx="2320920" cy="162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Share the Purpos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think the only purpose of oral reading is assessment.</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are with students your reasons for having them read aloud.</a:t>
            </a:r>
            <a:br>
              <a:rPr sz="3200"/>
            </a:br>
            <a:r>
              <a:rPr b="0" lang="en-US" sz="3200" spc="-1" strike="noStrike">
                <a:solidFill>
                  <a:srgbClr val="000000"/>
                </a:solidFill>
                <a:latin typeface="Geneva"/>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t!</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tion on Readers' Theat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vie se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or calls for the cast members to repeat their lines with different emotions:  sad, happy, angry, or slower and fast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dio Reading</a:t>
            </a: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student reads as the announcer and the other students act as listen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the announcer has a copy of the tex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a text at the child’s reading level.  Allow ample pract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 the student to practice with a partner, then a small group.</a:t>
            </a:r>
            <a:endParaRPr b="0" lang="en-US" sz="2800" spc="-1" strike="noStrike">
              <a:solidFill>
                <a:srgbClr val="000000"/>
              </a:solidFill>
              <a:latin typeface="Comic Sans MS"/>
            </a:endParaRPr>
          </a:p>
        </p:txBody>
      </p:sp>
      <p:pic>
        <p:nvPicPr>
          <p:cNvPr id="261" name="Picture 4" descr="MCj02343680000[1]"/>
          <p:cNvPicPr/>
          <p:nvPr/>
        </p:nvPicPr>
        <p:blipFill>
          <a:blip r:embed="rId1"/>
          <a:stretch/>
        </p:blipFill>
        <p:spPr>
          <a:xfrm>
            <a:off x="6305400" y="4343400"/>
            <a:ext cx="2838600" cy="2260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ne Teacher’s Guide to Using Readers' Theater</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536040" indent="-53604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fore the week</a:t>
            </a:r>
            <a:r>
              <a:rPr b="0" lang="en-US" sz="2800" spc="-1" strike="noStrike">
                <a:solidFill>
                  <a:srgbClr val="000000"/>
                </a:solidFill>
                <a:latin typeface="Comic Sans MS"/>
              </a:rPr>
              <a:t>:  Select or write a script to be performed.  Make 2 copies for each group member.</a:t>
            </a:r>
            <a:endParaRPr b="0" lang="en-US" sz="2800" spc="-1" strike="noStrike">
              <a:solidFill>
                <a:srgbClr val="000000"/>
              </a:solidFill>
              <a:latin typeface="Comic Sans MS"/>
            </a:endParaRPr>
          </a:p>
          <a:p>
            <a:pPr marL="536040" indent="-53604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nday</a:t>
            </a:r>
            <a:r>
              <a:rPr b="0" lang="en-US" sz="2800" spc="-1" strike="noStrike">
                <a:solidFill>
                  <a:srgbClr val="000000"/>
                </a:solidFill>
                <a:latin typeface="Comic Sans MS"/>
              </a:rPr>
              <a:t>: Introduce or review the nature, purpose, and procedures for Readers' Theater.</a:t>
            </a:r>
            <a:endParaRPr b="0" lang="en-US" sz="2800" spc="-1" strike="noStrike">
              <a:solidFill>
                <a:srgbClr val="000000"/>
              </a:solidFill>
              <a:latin typeface="Comic Sans MS"/>
            </a:endParaRPr>
          </a:p>
          <a:p>
            <a:pPr marL="536040" indent="-53604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gn students individual parts by having them volunteer or audition.  Parts can also be assigned by students within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groups and can rotate from one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performance to anoth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85800" y="990360"/>
            <a:ext cx="7772400" cy="51051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  Tuesday-Thursday:</a:t>
            </a:r>
            <a:r>
              <a:rPr b="0" lang="en-US" sz="3200" spc="-1" strike="noStrike">
                <a:solidFill>
                  <a:srgbClr val="000000"/>
                </a:solidFill>
                <a:latin typeface="Comic Sans MS"/>
              </a:rPr>
              <a:t>  Have students practice their parts on their own, in their group, under your guidance, and at home.</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  Friday</a:t>
            </a:r>
            <a:r>
              <a:rPr b="0" lang="en-US" sz="3200" spc="-1" strike="noStrike">
                <a:solidFill>
                  <a:srgbClr val="000000"/>
                </a:solidFill>
                <a:latin typeface="Comic Sans MS"/>
              </a:rPr>
              <a:t>: Invite students to perform their scripts for an audience, usually their classmates, but others can be invited as well.   </a:t>
            </a: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re do I find scripts?</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Reader’s Theatre for Beginning Readers</a:t>
            </a:r>
            <a:r>
              <a:rPr b="0" lang="en-US" sz="2600" spc="-1" strike="noStrike">
                <a:solidFill>
                  <a:srgbClr val="000000"/>
                </a:solidFill>
                <a:latin typeface="Comic Sans MS"/>
              </a:rPr>
              <a:t> by Suzanne Barchers (Teachers Ideas Press, 1993)</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Presenting Reader’s Theatre</a:t>
            </a:r>
            <a:r>
              <a:rPr b="0" lang="en-US" sz="2600" spc="-1" strike="noStrike">
                <a:solidFill>
                  <a:srgbClr val="000000"/>
                </a:solidFill>
                <a:latin typeface="Comic Sans MS"/>
              </a:rPr>
              <a:t> by Caroline Bauer (H.W. Wilson, 1991)</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The Best of Readers' Theater, Vols. I and II</a:t>
            </a:r>
            <a:r>
              <a:rPr b="0" lang="en-US" sz="2600" spc="-1" strike="noStrike">
                <a:solidFill>
                  <a:srgbClr val="000000"/>
                </a:solidFill>
                <a:latin typeface="Comic Sans MS"/>
              </a:rPr>
              <a:t> by Lisa Blau (One from the Heart, 2000)</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A Reader’s Theatre Treasury of Stories</a:t>
            </a:r>
            <a:r>
              <a:rPr b="0" lang="en-US" sz="2600" spc="-1" strike="noStrike">
                <a:solidFill>
                  <a:srgbClr val="000000"/>
                </a:solidFill>
                <a:latin typeface="Comic Sans MS"/>
              </a:rPr>
              <a:t> by Win Braun (Calgary:  Braun &amp; Braun, 2000)</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lays Around the Year</a:t>
            </a:r>
            <a:r>
              <a:rPr b="0" lang="en-US" sz="2800" spc="-1" strike="noStrike">
                <a:solidFill>
                  <a:srgbClr val="000000"/>
                </a:solidFill>
                <a:latin typeface="Comic Sans MS"/>
              </a:rPr>
              <a:t> by Liza Charlesworth (Scholastic, 1994)</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12 Fabulously Funny Fairy Tale Plays</a:t>
            </a:r>
            <a:r>
              <a:rPr b="0" lang="en-US" sz="2800" spc="-1" strike="noStrike">
                <a:solidFill>
                  <a:srgbClr val="000000"/>
                </a:solidFill>
                <a:latin typeface="Comic Sans MS"/>
              </a:rPr>
              <a:t> by Justine McCory Martin (Scholastic, 2002)</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From Script to Stage</a:t>
            </a:r>
            <a:r>
              <a:rPr b="0" lang="en-US" sz="2800" spc="-1" strike="noStrike">
                <a:solidFill>
                  <a:srgbClr val="000000"/>
                </a:solidFill>
                <a:latin typeface="Comic Sans MS"/>
              </a:rPr>
              <a:t> by Aaron Shepherd (H.W. Wilson, 1993)</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15 Easy-to-Read Mini-Book Plays</a:t>
            </a:r>
            <a:r>
              <a:rPr b="0" lang="en-US" sz="2800" spc="-1" strike="noStrike">
                <a:solidFill>
                  <a:srgbClr val="000000"/>
                </a:solidFill>
                <a:latin typeface="Comic Sans MS"/>
              </a:rPr>
              <a:t> by Sheryl Ann Crawford &amp; Nancy I. Sanders (Scholastic, 2001)</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Folk Tale Plays From Around the World That Kids Will Love!</a:t>
            </a:r>
            <a:r>
              <a:rPr b="0" lang="en-US" sz="3200" spc="-1" strike="noStrike">
                <a:solidFill>
                  <a:srgbClr val="000000"/>
                </a:solidFill>
                <a:latin typeface="Comic Sans MS"/>
              </a:rPr>
              <a:t>  By Marci Appelbaum and Jeff Catanese (Scholastic, 2001)</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25 Just-Right Plays for Emergent Readers</a:t>
            </a:r>
            <a:r>
              <a:rPr b="0" lang="en-US" sz="3200" spc="-1" strike="noStrike">
                <a:solidFill>
                  <a:srgbClr val="000000"/>
                </a:solidFill>
                <a:latin typeface="Comic Sans MS"/>
              </a:rPr>
              <a:t> by Carol Pugliano-Martin (Scholastic, 1998)</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Frantic Frogs and Other Frankly Fractured Folktales for Readers Theatre</a:t>
            </a:r>
            <a:r>
              <a:rPr b="0" lang="en-US" sz="3200" spc="-1" strike="noStrike">
                <a:solidFill>
                  <a:srgbClr val="000000"/>
                </a:solidFill>
                <a:latin typeface="Comic Sans MS"/>
              </a:rPr>
              <a:t> by Anthony Fredericks (Teacher Ideas Press, 1993)</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sites</a:t>
            </a:r>
            <a:endParaRPr b="0" lang="en-US" sz="4400" spc="-1" strike="noStrike">
              <a:solidFill>
                <a:srgbClr val="000000"/>
              </a:solidFill>
              <a:latin typeface="Comic Sans MS"/>
            </a:endParaRPr>
          </a:p>
        </p:txBody>
      </p:sp>
      <p:sp>
        <p:nvSpPr>
          <p:cNvPr id="270"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www.aaronshep.com/rt/</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www.readers-theatre.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rPr>
              <a:t>www.geocities.com/EnchantedForest/Tower/3235</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rPr>
              <a:t>www.storycart.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rPr>
              <a:t>http://loiswalker.com/catalog/guidesamples.html</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rPr>
              <a:t>www.readinglady.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rPr>
              <a:t>www.lisablau.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rPr>
              <a:t>http://home.sprynet.com/~palermo/radiokit.ht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Comments?</a:t>
            </a: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it Tickets</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 Learn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 Still Have Questions Abou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ategies to Try in the Next Two Week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l Rea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oral reading of a selection</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ctice reading of previously read selection</a:t>
            </a:r>
            <a:endParaRPr b="0" lang="en-US" sz="2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ers’ Thea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Move Away from Round Robin Reading?</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  It provides students with an inaccurate view of read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  It can potentially cause faulty reading habits instead of effective reading strategie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3.  It can cause unnecessary subvocaliz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914040"/>
            <a:ext cx="7772400" cy="4724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4.  It can cause inattentive behaviors, leading to discipline problems.</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5.  It can work against all students developing to their full potential.</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6.  It consumes valuable classroom time that could be spent on other meaningful activities.</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7.  It can be a source of anxiety and embarrassment for students.</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8.  It can hamper listening comprehen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Move Away from Round Robin Reading?</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n terms of listening and meaning making, this strategy is a disaster.”</a:t>
            </a:r>
            <a:endParaRPr b="0" lang="en-US" sz="4400" spc="-1" strike="noStrike">
              <a:solidFill>
                <a:srgbClr val="000000"/>
              </a:solidFill>
              <a:latin typeface="Comic Sans MS"/>
            </a:endParaRPr>
          </a:p>
          <a:p>
            <a:pPr lvl="1" marL="743040" indent="-285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oan and Lotham, 1981</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
            </a:r>
            <a:r>
              <a:rPr b="0" lang="en-US" sz="3200" spc="-1" strike="noStrike">
                <a:solidFill>
                  <a:srgbClr val="000000"/>
                </a:solidFill>
                <a:latin typeface="Geneva"/>
              </a:rPr>
              <a:t>Clearly, although oral reading can be beneficial, round robin reading is not. It often prohibits rather than facilitates the ability to read… It fails to meet the legitimate purposes of reading aloud.”</a:t>
            </a:r>
            <a:endParaRPr b="0" lang="en-US" sz="3200" spc="-1" strike="noStrike">
              <a:solidFill>
                <a:srgbClr val="000000"/>
              </a:solidFill>
              <a:latin typeface="Comic Sans MS"/>
            </a:endParaRPr>
          </a:p>
          <a:p>
            <a:pPr lvl="1" marL="743040" indent="-28584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Opitz &amp; Rasinski, 1998, p. 8)</a:t>
            </a:r>
            <a:endParaRPr b="0" lang="en-US" sz="2800" spc="-1" strike="noStrike">
              <a:solidFill>
                <a:srgbClr val="000000"/>
              </a:solidFill>
              <a:latin typeface="Comic Sans MS"/>
            </a:endParaRPr>
          </a:p>
        </p:txBody>
      </p:sp>
      <p:sp>
        <p:nvSpPr>
          <p:cNvPr id="172"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Move Away from Round Robin Reading?</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21:50:23Z</dcterms:created>
  <dc:creator>Deborah Karen Setliff</dc:creator>
  <dc:description/>
  <dc:language>en-US</dc:language>
  <cp:lastModifiedBy>Trent Family</cp:lastModifiedBy>
  <dcterms:modified xsi:type="dcterms:W3CDTF">2010-09-23T15:26:06Z</dcterms:modified>
  <cp:revision>94</cp:revision>
  <dc:subject/>
  <dc:title>Chapter 1 The Reading Act</dc:title>
</cp:coreProperties>
</file>